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3AD-498B-40AE-9BCE-E71F78A4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D34-21FA-4B69-8BF2-8FC35BC1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96B-ACEE-4385-8FC6-1FD10514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300-E5C6-4F20-8A0B-7ECAFF47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9828-6C1F-488E-A859-221EB8F5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5664-21F7-46A8-96B2-2E9869E9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F414-B2C7-4CA7-B1FB-F8A1DC7B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AA85-CEE6-40DB-BBA9-D666A4C3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69B2-1C5E-4CEC-9AD6-1A28143F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A8A9-FB19-4AF3-B171-2FD08C3D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3FA1-9702-4CB2-B1D2-7D7516CC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688-ACA1-4BC7-8327-7714D1B8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5863-1EE7-40E2-B559-77E4F2BD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66FD-5149-4F01-96AE-5FE7576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84CD-B591-40FC-BBF3-1D43E054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974B-EFFB-4C53-94CD-4AAE2925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D267-B268-4636-9354-6680BA78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101-74F2-4F0B-AE74-3B6E44D9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D53-CA13-41AB-8581-6A5BB780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5F0-7661-4CC1-B798-57016F5C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A1C-F8E1-4798-875D-892DFDAE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A9B-7D30-4754-BEBA-8ED274BF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D12-719E-4C6F-B9D3-07097DB3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3F2-AB8F-4F6F-8B45-BBB29C8B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05E5-6E39-48AD-AECF-ABAC5352C5C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7E3A-8F02-448C-8FCE-B8BD1C1E650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357120" y="383040"/>
            <a:ext cx="8215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предки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илис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лой, выносливостью и смелостью. Их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так велика, что прославленных предков наших, воинов - богатырей, часто другие народы звали на войну как союзников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н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жались они мечом и копьем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785960" y="500040"/>
            <a:ext cx="45007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928800" y="1785960"/>
            <a:ext cx="5429160" cy="32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571760" y="285840"/>
            <a:ext cx="7215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перь знаю, что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гу рассказать о том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умалс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дивился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очу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Прямоугольник 2" descr=""/>
          <p:cNvPicPr/>
          <p:nvPr/>
        </p:nvPicPr>
        <p:blipFill>
          <a:blip r:embed="rId1"/>
          <a:stretch/>
        </p:blipFill>
        <p:spPr>
          <a:xfrm>
            <a:off x="-212760" y="1951200"/>
            <a:ext cx="2401920" cy="1908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428760" y="1143000"/>
            <a:ext cx="792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Большую   роль  в  жизни   славян   играли  дары  леса  —древесина, дичь, ягоды, мёд  диких  пчёл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Селились   славяне   неподалёку  от естественных   водоёмов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Славяне   были   хорошими   земледельцам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Мир   природы   казался   славянам   живым   и   одушевлённым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Славяне   носили   одежду   из   льна   и   шерст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Бога  воды  славяне   представляли   в   виде  человека  с головой   крокодил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Основным   строительным   материалом   у   славян   было дерево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84" name="WordArt 11"/>
          <p:cNvSpPr txBox="1"/>
          <p:nvPr/>
        </p:nvSpPr>
        <p:spPr>
          <a:xfrm>
            <a:off x="755640" y="1844640"/>
            <a:ext cx="4392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Tahoma"/>
              </a:rPr>
              <a:t>ЖИЗНЬ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Tahoma"/>
              </a:rPr>
              <a:t>ДРЕВНИХ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Tahoma"/>
              </a:rPr>
              <a:t>СЛАВЯН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Tahoma"/>
              <a:ea typeface="Tahoma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928800"/>
            <a:ext cx="82296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-Где…………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-Как………?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-Чем………...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-Во что………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71680" y="785880"/>
            <a:ext cx="8229600" cy="54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Где… (жили древние славяне)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АК… (выглядели)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Чем… (занимались древние славяне)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о что….верили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79280" y="907920"/>
            <a:ext cx="5168880" cy="5761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88" name="WordArt 5"/>
          <p:cNvSpPr txBox="1"/>
          <p:nvPr/>
        </p:nvSpPr>
        <p:spPr>
          <a:xfrm>
            <a:off x="2124000" y="189000"/>
            <a:ext cx="5543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ccccff"/>
                </a:solidFill>
                <a:latin typeface="Tahoma"/>
              </a:rPr>
              <a:t>РАССЕЛЕНИЕ СЛАВЯН</a:t>
            </a:r>
            <a:endParaRPr b="1" lang="en-US" sz="4100" spc="1" strike="noStrike">
              <a:ln w="28440">
                <a:solidFill>
                  <a:srgbClr val="000099"/>
                </a:solidFill>
                <a:miter/>
              </a:ln>
              <a:solidFill>
                <a:srgbClr val="ccccff"/>
              </a:solidFill>
              <a:latin typeface="Tahoma"/>
              <a:ea typeface="Tahom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5867280" y="1341360"/>
            <a:ext cx="505080" cy="50328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6588000" y="1268280"/>
            <a:ext cx="161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АДНЫ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ВЯ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5867280" y="2637000"/>
            <a:ext cx="5050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6588000" y="2492280"/>
            <a:ext cx="194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ТОЧ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ВЯ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5867280" y="3716280"/>
            <a:ext cx="503280" cy="433440"/>
          </a:xfrm>
          <a:prstGeom prst="rect">
            <a:avLst/>
          </a:prstGeom>
          <a:solidFill>
            <a:srgbClr val="99ff33">
              <a:alpha val="7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516720" y="3500280"/>
            <a:ext cx="158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ЮЖНЫ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ВЯ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141"/>
          <p:cNvPicPr/>
          <p:nvPr/>
        </p:nvPicPr>
        <p:blipFill>
          <a:blip r:embed="rId1"/>
          <a:stretch/>
        </p:blipFill>
        <p:spPr>
          <a:xfrm>
            <a:off x="857160" y="1214280"/>
            <a:ext cx="2006640" cy="47088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96" name="Picture 14" descr="Save0146"/>
          <p:cNvPicPr/>
          <p:nvPr/>
        </p:nvPicPr>
        <p:blipFill>
          <a:blip r:embed="rId2"/>
          <a:stretch/>
        </p:blipFill>
        <p:spPr>
          <a:xfrm>
            <a:off x="6429240" y="1214280"/>
            <a:ext cx="2301840" cy="514368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97" name="Прямоугольник 5"/>
          <p:cNvSpPr/>
          <p:nvPr/>
        </p:nvSpPr>
        <p:spPr>
          <a:xfrm>
            <a:off x="285840" y="60008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сили одежду из льна и шер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Заголовок 7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Image2"/>
          <p:cNvPicPr/>
          <p:nvPr/>
        </p:nvPicPr>
        <p:blipFill>
          <a:blip r:embed="rId1"/>
          <a:stretch/>
        </p:blipFill>
        <p:spPr>
          <a:xfrm>
            <a:off x="357120" y="500040"/>
            <a:ext cx="8643960" cy="57182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642960" y="3833640"/>
            <a:ext cx="3786120" cy="2735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4643280" y="3786120"/>
            <a:ext cx="4383360" cy="280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Save0147"/>
          <p:cNvPicPr/>
          <p:nvPr/>
        </p:nvPicPr>
        <p:blipFill>
          <a:blip r:embed="rId3"/>
          <a:stretch/>
        </p:blipFill>
        <p:spPr>
          <a:xfrm>
            <a:off x="2000160" y="142920"/>
            <a:ext cx="4714920" cy="3844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214200" y="111240"/>
            <a:ext cx="5069160" cy="25272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rcRect l="1650" t="0" r="0" b="1985"/>
          <a:stretch/>
        </p:blipFill>
        <p:spPr>
          <a:xfrm>
            <a:off x="5092560" y="1185840"/>
            <a:ext cx="3765600" cy="2451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"/>
          <p:cNvPicPr/>
          <p:nvPr/>
        </p:nvPicPr>
        <p:blipFill>
          <a:blip r:embed="rId3"/>
          <a:stretch/>
        </p:blipFill>
        <p:spPr>
          <a:xfrm>
            <a:off x="4429080" y="4572000"/>
            <a:ext cx="3692520" cy="1947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"/>
          <p:cNvPicPr/>
          <p:nvPr/>
        </p:nvPicPr>
        <p:blipFill>
          <a:blip r:embed="rId4"/>
          <a:stretch/>
        </p:blipFill>
        <p:spPr>
          <a:xfrm>
            <a:off x="500040" y="2857680"/>
            <a:ext cx="4834080" cy="1908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18:39Z</dcterms:created>
  <dc:creator>group61</dc:creator>
  <dc:description/>
  <dc:language>en-US</dc:language>
  <cp:lastModifiedBy>Admin</cp:lastModifiedBy>
  <dcterms:modified xsi:type="dcterms:W3CDTF">2020-02-13T04:14:04Z</dcterms:modified>
  <cp:revision>91</cp:revision>
  <dc:subject/>
  <dc:title>Жизнь древних славян.</dc:title>
</cp:coreProperties>
</file>